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E46-D1C9-42FA-8270-BFAFE90E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1B6-4209-495E-85E5-19B0DC5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62B-A566-418D-BE51-C5D5ED8C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189-91B2-424F-8336-AAA7593A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D02-BDB1-4152-A565-531631F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647-C447-4231-9670-5BFADA9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920-B41D-40FE-A2B3-0EF167C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084-DA35-4510-916D-50471BD9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1A7-A602-45F9-AF7D-8619F8A5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B6A-BB4A-41C6-8699-841E955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027-1404-4498-9E3B-DBD945FC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8B2-42C4-4ABD-859C-5C4980D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DD7-9A1F-4658-8681-66F314456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5.xml"/><Relationship Id="rId19" Type="http://schemas.openxmlformats.org/officeDocument/2006/relationships/slide" Target="slide24.xml"/><Relationship Id="rId20" Type="http://schemas.openxmlformats.org/officeDocument/2006/relationships/slide" Target="slide40.xml"/><Relationship Id="rId21" Type="http://schemas.openxmlformats.org/officeDocument/2006/relationships/slide" Target="slide26.xml"/><Relationship Id="rId22" Type="http://schemas.openxmlformats.org/officeDocument/2006/relationships/slide" Target="slide28.xml"/><Relationship Id="rId23" Type="http://schemas.openxmlformats.org/officeDocument/2006/relationships/slide" Target="slide28.xml"/><Relationship Id="rId24" Type="http://schemas.openxmlformats.org/officeDocument/2006/relationships/slide" Target="slide30.xml"/><Relationship Id="rId25" Type="http://schemas.openxmlformats.org/officeDocument/2006/relationships/slide" Target="slide30.xml"/><Relationship Id="rId26" Type="http://schemas.openxmlformats.org/officeDocument/2006/relationships/slide" Target="slide32.xml"/><Relationship Id="rId27" Type="http://schemas.openxmlformats.org/officeDocument/2006/relationships/slide" Target="slide32.xml"/><Relationship Id="rId28" Type="http://schemas.openxmlformats.org/officeDocument/2006/relationships/slide" Target="slide34.xml"/><Relationship Id="rId29" Type="http://schemas.openxmlformats.org/officeDocument/2006/relationships/slide" Target="slide34.xml"/><Relationship Id="rId30" Type="http://schemas.openxmlformats.org/officeDocument/2006/relationships/slide" Target="slide36.xml"/><Relationship Id="rId31" Type="http://schemas.openxmlformats.org/officeDocument/2006/relationships/slide" Target="slide36.xml"/><Relationship Id="rId32" Type="http://schemas.openxmlformats.org/officeDocument/2006/relationships/slide" Target="slide38.xml"/><Relationship Id="rId33" Type="http://schemas.openxmlformats.org/officeDocument/2006/relationships/slide" Target="slide44.xml"/><Relationship Id="rId34" Type="http://schemas.openxmlformats.org/officeDocument/2006/relationships/slide" Target="slide42.xml"/><Relationship Id="rId35" Type="http://schemas.openxmlformats.org/officeDocument/2006/relationships/slide" Target="slide16.xml"/><Relationship Id="rId36" Type="http://schemas.openxmlformats.org/officeDocument/2006/relationships/slide" Target="slide46.xml"/><Relationship Id="rId37" Type="http://schemas.openxmlformats.org/officeDocument/2006/relationships/slide" Target="slide46.xml"/><Relationship Id="rId38" Type="http://schemas.openxmlformats.org/officeDocument/2006/relationships/slide" Target="slide50.xml"/><Relationship Id="rId39" Type="http://schemas.openxmlformats.org/officeDocument/2006/relationships/slide" Target="slide26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and Atomic Theory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Double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1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8 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ff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eams will have time to work on this question, you need not be the first raised hand to answ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 wager.  Your wager must be less than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5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bject has a density of 10.00 g/mL.  If its volume is doubled but its mass remains constant, this is its new dens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5.000 g/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ue or false: there is nothing smaller than an a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al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re the subatomic particles that make up the nucleus of an ato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rotons and neutr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ubatomic particles carry a negative charge, and their number and arrangement are primarily what determines an atom’s vol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electr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6" action="ppaction://hlinksldjump"/>
          </p:cNvPr>
          <p:cNvSpPr/>
          <p:nvPr/>
        </p:nvSpPr>
        <p:spPr>
          <a:xfrm>
            <a:off x="373392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2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3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4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5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o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asurement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n atom has 37 protons, how many electrons would you expect it to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ron (atomic number: 5) has five protons.  It has two stable isotopes, the most common of which has 6 neutrons.  How many bonds will Boron tend to form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int: draw a full or Lewis Dot Diagram to help you figure it ou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3 bo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equation for densi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sink in liquid when their densities are this compared to the density of the flu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eater th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length the object (1) being measured by this cali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2.48 cm? (2.47, 2.475, 2.485, 2.49, and 2.495 can also be argued based on this dia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density of an object is 6.00 g/mL, this is its density in g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6.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 = M/V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specific gravity of quartz is 2.65, that means that a sample of quartz is __ as dense as wa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2.6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mass of a mineral hanging in the air off a triple beam balance is 5.00 g.  When submerged in water, its weight is 2.50 g.  What is its specific gravit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2.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reasing an object’s volume does this to its dens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eams will have time to work on this question, you need not be the first raised hand to answ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 wager.  Your wager must be less than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ecr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reasing an object’s mass does this to its dens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cre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bject has a density of 2.00 g/mL, and a volume of 4 mL.  This is its m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ebecca Stang</cp:lastModifiedBy>
  <dcterms:modified xsi:type="dcterms:W3CDTF">2009-12-11T15:04:12Z</dcterms:modified>
  <cp:revision>122</cp:revision>
  <dc:subject/>
  <dc:title>No Slide Title</dc:title>
</cp:coreProperties>
</file>